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F14-FF70-4BFA-B167-23B94741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A66-626C-4AEF-93F5-97333E27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B02-E2B0-47E2-A8E2-44D6ADDE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03D-FB1E-4C4B-B37B-80CAE49A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623-C083-4E14-9D49-80903AB4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F10-3647-4939-B754-A44737AF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A8E-2063-49AC-917F-D3E11DEB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719-2E24-422B-A714-3CCEDCE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96F-AF7B-49C4-BD70-CCFC3D0C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CED-9F83-49FD-95B9-91108EFB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6D0-A0F2-4FA3-A4EA-EA4613C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28D-FF2F-44CF-8179-D8F092E6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FBFD-0A28-4E94-BB60-EC5A75488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 Clase 6nh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6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n los depo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el desayu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el almuerz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la ce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cuando tienes mucha hamb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verbos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ESAR, ABURRIR, GUSTAR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pressing what interests, bores or pleases yo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8748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Interesar (to interest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Aburrir (to b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th function the same as in English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e aburre el béisbo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, el béisbol me inte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e aburren los depor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, los deportes me intere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38080" y="3276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38080" y="4114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baseball interests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990720" y="5029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38080" y="5943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sports interes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ustar (to please /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to like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b conveys the mea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its true meaning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p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way of saying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ike 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  is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eball pleases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béis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me gusta mucho el béis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n los deportes en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, me gus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please you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LIKE BASE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85800" y="4191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 it pleases me very much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 I LIKE IT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4876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in general please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GENERALLY LIKE S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62120" y="5943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, they please me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, I LI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ust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ften used with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ell what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n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Si. No m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38080" y="2895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you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like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to win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. I don’t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like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to lose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83808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Si, (No) 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me gusta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comer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7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1-4) p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840" y="325116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6094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1:48:00Z</dcterms:created>
  <dc:creator>Helen Zumaeta</dc:creator>
  <dc:description/>
  <dc:language>en-US</dc:language>
  <cp:lastModifiedBy>Helen Zumaeta</cp:lastModifiedBy>
  <dcterms:modified xsi:type="dcterms:W3CDTF">2013-02-08T21:02:54Z</dcterms:modified>
  <cp:revision>18</cp:revision>
  <dc:subject/>
  <dc:title>Me llamo ________  Clase 7 IM La fecha es el 20 de enero del 2011</dc:title>
</cp:coreProperties>
</file>